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4FC-FFFD-4B2A-86F0-08260D70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E0D-8928-4A53-B570-A429FE0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10171-88BD-42CC-89F3-BC7FEA81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D62F8-81A3-4C81-BB2B-EEA155B8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D2C2A-2A93-4E79-8A1B-0FF4EDAE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D7221-0D04-4531-B813-A914866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52AA9-701B-49CA-B498-54F3F08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8A950-1288-48CE-AC57-09AC7849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BB552-6896-491F-81A6-8B0F8921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57899-5A4F-495F-B39C-F658C38E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F8A3B-3469-4A7E-9B41-FC5F7F94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85C9C-99C0-4435-ADFE-80F30512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0D3-6F2C-4B4C-834B-79DF476E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F69DC-E033-49A1-B161-5231313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CF014-6973-4F40-8258-680CEB90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27805-216E-4539-B1DC-6008DA7F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7E2E6-C32B-4BCB-912D-4B5FB1B7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83883-21C6-4796-A2EC-4C5CBA2D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3C2BC-7918-4212-8229-FD39711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A24E7-BB70-4420-A9FB-027AA8F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E09F0-BEB4-412F-BF2F-4A262B3B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1D038-CF2E-45C8-B33E-8508CB13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0DEA2-585C-47E8-B68C-8206E5D6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5E4-314F-4948-B7F4-AADAF70E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9BC71-EC64-4CAE-8229-35F83BA7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2B243-6088-4B0C-B566-F0B257BE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59A0A-0451-45CD-856E-81E0E369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A41CC-FFC1-4DEA-B371-B209D5E3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3D6AB-FC92-428B-9D14-F3984961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89C1F-E779-4983-B699-707C8677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62863-8504-4903-8F5A-6F6CFAE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97F2-D7C5-404E-AFA1-90163A79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32D52-C599-4E66-AE12-0BDD01B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BD267-5AA7-47AD-AD49-4C1FB18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AF1E-97AF-47D9-A962-11B2D451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94C12-F8E2-4AEB-B3B6-45704A1D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8D0BF-59DB-42EA-9F61-1F39926A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1942A-E313-4635-98E4-9D9C5435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D0F9F-6897-4FB5-89A1-9358D9F9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B7BBE-B46A-49CA-A074-4B0CE433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FBCE9-0CC6-4579-9624-A3F9B52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093B3-17AD-4E1A-A52F-2B358114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D2A41-B4B1-420A-B0CE-F1C75AD9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ECDB7-7A48-4329-BD37-B53B7A91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218CE-D90C-44C2-AA38-3B98D89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2E66-984A-43A6-9EA4-C383D61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04927-1BAE-4003-8C50-E69A8BD0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E6483-765B-479E-BC42-7C35FFE3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6258D-6CEB-4B33-84FB-7827EB3E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2896A-9B96-4707-B824-6DB78C38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7D551-59E7-4E66-BE62-FCB69028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B2887-A0EE-4101-B362-8294D5C5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5A7D9-5FBA-4753-A574-2274A49C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798C4-A81E-46EC-A54E-DF1EFFA9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0009D-7894-4E34-AFAD-06CCF9A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AE2F3-38A9-4FFB-B18A-5E43B4FE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E7FF-3E8D-4F11-B4FB-9B70289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5303E-4955-494A-A5ED-1146F1D3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3BD1B-87B7-40C1-8CA9-B5303E27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EECDB-3564-4D24-9376-4C2F009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2A3BB-ECA2-4E02-86AE-08EDC37F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DCB93-5B1F-47F1-9F7F-D9DDF2B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1A166-CECD-4BC9-A3F0-14387623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06063-8C1F-4F16-BA3D-7FAAC42C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B4964-9DFA-415A-ADF9-F651BF44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99EFE-E47A-4C1A-88A9-50A81CA8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44260-2736-43AE-B622-3E83790F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0346-8B93-4933-A1FB-5AFC50CE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CBF0B-8C0B-49FC-905F-BC2CEFD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A1862-8B8C-4F9B-B794-DA87640D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DE6FF-F188-462F-A5C7-C57732DD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4558F-6FCA-4BB2-9B95-CC83E5B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34674-F568-460E-9A7A-C49A28E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DB6D3-30F3-4549-B817-7FD6A81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EE084-CE17-48FE-B0C8-AA2DC95E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FA0CE-39AF-41C0-AEF3-4A2B249E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9F60E-CD49-4B1F-A0D5-8AFFA78E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5B8A2-532D-48F7-8BA3-FD55E4B7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6E3A-C570-4A7B-866D-76AB17F5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F0479-10F9-4E01-94FD-779CFC48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F7623-A2D9-43BA-BBC8-532DE1FD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67663-173F-42EA-9757-3964DC4A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0DF33-5CB9-4AAC-BFE7-736F4A7A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77B5A-BBAA-47C4-88A3-B12B97AA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861443-F01C-43A4-9902-C37961CD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13061-43AD-470C-8510-B5FA948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B4931-EDB7-4BDE-BE6A-AB0D8440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61F63-37CD-49DA-B499-4928DFD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1C8CA-441F-4919-A4A4-058C9798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4ED7-73FE-4387-9F20-2E78EAFD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34B03-7149-4F3B-850F-3D754B80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DA548-D356-456D-8399-B735A704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56993-41C9-4E69-B2EF-8926775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55807-30BB-41E7-853E-5AB77D5D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9CFF7-8EFD-4634-AE72-8B56A68C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46229-D193-4757-B6D4-2F11E106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17687-30F1-4938-8E60-0ED6A3C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AEB4C-05EE-46C7-8EFE-85027E5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68CEF-DC7F-4976-A4AA-46F61BA6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43F26-6B7E-45C4-ADAB-623C418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9F8C-4D14-4A1F-AFA2-577D5603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E21EE-656C-44C9-B447-58B1EC0D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896B7-D516-4613-91AE-7201D7E3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DC61D-924F-438C-BDDD-20F788BB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BE0C0-2DA4-4C7C-8A8A-A2153F88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AADF6-73F6-4AC4-B0D0-7505169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7B1C0-4C3E-49A9-8FA1-40E8DD00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2ED72-759A-432B-A603-43082033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D8AD8-A290-4215-A95C-A8EEC98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77DD9-AA98-45C1-A09A-D2E2DE4F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E27E1-F284-4164-A64C-5373C5D1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52A-2A79-4050-9C64-09E1388A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DECB-ADF7-4091-B552-283F4AF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E0212-FFB9-43BE-BE2D-7402E0B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C9E2E-982F-41EE-800D-D8BD78B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30A7D-8258-49CC-8D37-9055EF29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AF9C4-CAA5-4665-BE64-9E1DBC0C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9D077-B9C6-4F82-ABD4-3AC78689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91389-34ED-4299-AB7A-CFE78F09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3B063-6495-4BB7-BD13-0C3A712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7F0E1-35E8-44C7-ACD2-381FF92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B5ABF-38B8-4BC3-BE47-5D93990A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37B1C-C32C-4FBE-89C5-A2F84AE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7AB9-EB01-4F3F-96DC-89F2622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8DEE3-9BF1-46EB-BE25-0378E8F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8E5BD-1CC3-4E8E-B7BD-DEFED85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4B5AC-99F2-4EBF-BE4D-2815D61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57586-F091-437F-B41E-D0DFD05D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B9715-A2EC-4030-84E3-5A5DC2ED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EB74A-A807-439B-A8E8-21DBE1AE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1A78D-3235-4982-9132-DE11EAC4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2B71D-3BE1-49B6-BBC8-CC222B6F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DA0E2-7486-42C7-8A64-47837488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AD3DF8-6E94-478C-8ADA-944DCC91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D6F9-F296-4920-9FED-387CC30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62219A-727B-47A1-AF4E-D3CEFA3D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CBBC3-F31B-41E6-AA23-7905C0C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58515-F547-4448-B7D6-1EA85FB4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834EB-EE72-4185-8EC9-4E7361F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940F9-516F-4292-B6DB-FB133E7E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B0BF7-814C-454A-ADA6-F7381B15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54A05-BE90-4997-AF1D-84C4C5C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37DAF9-AB55-4173-9447-D278F90C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017C3-9AA9-4FC8-A0AA-0D1907BC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FD8D7-3ED5-47ED-95E8-F37DA7E8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F76-C24A-4233-86A2-157B5C08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A1ABA-871A-453C-9F55-3650290F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6299B9-0FB0-4B4B-9BD4-4655C3F0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5E4F8-A82D-40A8-AA34-479B4BAC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345F7-542D-4F23-A7C9-35425C38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88C25-ECA5-4DAF-BA05-016EA00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C29AD4-A6AD-4949-A94F-E67D94B7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32C79-7FC9-4F3B-89F5-25C13934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32CEE-E690-46AF-A109-9E8CABD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5218F-1B33-4D3B-B1FF-890DB1D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2D868-5509-4E09-A610-DFCE13A1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1198-0E4B-4991-A2A8-AC8875CE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F353A-329C-4833-A669-EBCC72F8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59829-AC75-4849-A154-AFD5572F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956D5-2F17-432A-AA08-A0AD3DD9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13061F-C154-4F12-8E06-9F62C60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9C406-8A65-468E-A363-E1F6A390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CFCEDD-1D77-40CD-AC01-5014D3F7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29442-1C41-4117-B33D-CEFD7F98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71AA0-1CAC-4BBB-A3A1-17DDFBA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7EE1AF-80F1-4031-AA42-4AF7F8B1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1285C-087F-4D9A-9D02-63220FD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6D25-0155-4447-B0E5-F8E2C526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E3313-54FD-4A83-AEB0-AFCCF46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A4D27-9A08-4FCD-B9B1-611C695F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C91B6-BCF1-4792-B412-B622CCE5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57B1-A134-4322-8B99-A4D32940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0566-9398-49E9-B2E0-5F466021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0630-B4C5-4A82-9EBE-C54C96A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BFB1-2235-47D6-989D-67D6B60F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11F-4C69-44B4-9D1B-C9B6CAA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9D6C-EF28-4D1F-B0C5-E640B8C9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451B-4CFC-4C31-A78A-0B0EF27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1660-5889-4889-AE7C-DB2F1EE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F9C0-534A-47EA-AC8B-04E519E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518F9-90DB-47CC-A589-F06AF82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6DDD-F395-45AC-9998-2FC8DF7A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96D5-AF79-47D4-87A9-6D9E879C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0D8D7-539F-46DC-B756-B4FD0F1A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04B8-6732-411A-B471-424DA8FA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004EA-B2EF-4F26-9112-3D732C9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982-8365-4B8D-841F-77F07E68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52D5-77BF-4767-89F0-2FB52B3A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3C55-2220-4207-8863-98759CF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CE74-DAEC-417B-AACE-B26B704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14BF-2639-4BED-9FB9-A1C6613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D4D5-437C-4480-8343-2A87A00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B32ED-62DF-4BBD-8B30-A2821E8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D8B81-AC4E-4ED7-9714-F159AFA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9971-2A57-4976-9043-239E5481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AC03-CBCC-4307-B17C-C273AB8E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1C0B-3DA4-4866-A5CD-C2944B10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308-8C13-4AC2-94EE-BA1199B8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A32FA-C1A7-490F-93F0-86D49AA8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E994-F7F1-4C1F-9571-5A3C4E7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D005-DF26-4C58-8371-8B800BD2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8061-4890-42D4-8094-E18ADA41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AE405-54E9-4D47-8FCE-1FD7A4E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E9A6-8289-4DE4-AF26-EA413BF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B9EC4-D1C2-4825-A82C-9A0FAA5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203B-91F1-4E46-82B4-86D7586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B35B-2E40-4450-89E0-C4521039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0313D-D49C-4A9B-96BF-D1B92128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CDD-165B-4F0C-8C99-FCDC62D6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A706-BF05-4DA4-945D-0F71C19C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18DE7-F751-4DBF-BCBA-7FB2E499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1272-F62B-4702-B10A-48D0F5C0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BF59-AC56-4B6B-935D-D132613C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43AC-43A0-4224-AB2A-CE41D11A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BB94-B936-4152-9AB7-D370CDB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E61E-46D0-4EDF-9D91-8B02B4BC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D0CEE-8621-4D3D-A7A9-7AA9374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700D-42AE-45C6-954C-D315886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E389F-586D-4E6D-85D2-37492E65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A7D-6811-44BD-93EC-0385D0C0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8591-9A6B-423E-AFCF-F079FF1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06E9-AC32-4C7B-8E89-95DA51F0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C3CB-2CC4-45D9-9F7C-5B49897D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8FF45-A820-473D-A70B-DBE60B03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D8499-0E97-40B8-8396-820970DB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B39C-02A3-45D2-B0D2-58730475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B377-A856-4017-9718-B3EB187B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228D-F658-4CDE-B55D-478055D5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570A-CAA4-4254-B0BE-87C95F2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B6AB3-D461-4C3E-B0FE-CFF8183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300-8839-46F7-9CD5-D9A3491F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98EB-5296-4FC4-86CE-C66D311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8D44B-838F-4D40-945F-98EC8635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08A87-27EC-4E80-8640-98D60D78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D7D5-9E0D-4FBE-807A-F8197745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81015-FE4E-4453-B931-A9DA3882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706E-6475-49F7-BEC8-48BDA8B6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47B9D-5F41-4363-9C18-3A7E7555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B1658-8E71-4B73-9389-FFD4DEA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97E6-4685-4A9F-851F-ABDEF711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A172E-9328-43C4-8549-2275CEE4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2A0-0959-4F92-ACF7-D78E732B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8C0F-B82A-4311-8042-B367B00B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8FCBD-ECB4-43E7-A1F2-EC27EAB1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AC678-BCCE-4980-BEED-BCF3ADB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1E55C-27E0-433E-B9A1-26B4C6D6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D4B3C-EEB5-412B-80CC-F383AFC8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659E-3C8B-4E51-A32A-C08FD7AB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BF59-BA1C-45FD-A4A5-64AE0657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3890A-FFD4-4FDC-B944-4936C6F3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A1D9B-78C0-4395-8910-832C2CA7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0EA8-42B5-49E2-95C2-A1A2F1E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CB90-9D3D-4ED9-986C-FE02AB73FE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AD15-7A3E-494D-8A6C-C84EB2DCB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3E5-E6D4-4E6E-80F8-A2342F019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7A44-195B-453B-8241-99F5137816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2707-9C50-41A7-9F3D-1133C9945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017D-6579-4AD6-AA5B-4800FCFCF3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9CE0-89D8-4EE5-984B-61695958A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B46B-FED3-4580-AB7F-41475A25B7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7268-1417-4396-9190-BFDFADD6A0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5494-B837-4C14-B878-D209927D6B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EA9-36DD-4D05-9C92-3C554F06FE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B6F7-7D14-420C-B333-BE3AE6655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D25C-D36B-4B76-851B-F24EC359F7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9B04-4CD2-4004-921A-0959295E95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9704-15D9-4A65-80F2-89756DA0D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9795-9B61-4261-8ABF-20B24048B0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479E-1B6C-4028-ABDB-CF0C5C52A4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F5F-95B4-4EF5-B56B-40A310A1E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44A0-1AA8-4F0E-8510-E25693417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14E-6D39-4247-8FBA-4EEC57BBBE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DA50-ACA5-4E62-A76C-E4DDB738D5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C98E-5858-4588-AB81-65AA5BF511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921E-CDC6-4643-95B6-93578CDB4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AD1B-E50A-42F7-A5EA-2D4BD557CE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B62-AAEF-42CA-9C1C-DE27ACAF3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3D46-CE51-4B15-9535-055F1B8443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182-79B6-46D3-B915-9D364DE33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3FE7-181B-4FD6-AF33-1B892EE2BB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365-C0F4-4ED0-B5B2-270DAEB56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1970-5F3B-4E33-B452-79C9E072E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8458-E629-4921-B004-C33501B27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6F92-2864-4FF1-8EAD-73CBA15766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71B6-BA84-4E49-9B32-06F2FDD7EB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927-8B26-4ACB-B98C-069B2BCA4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FA79-EAC7-4E02-BB50-9D63AAFE0D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4FE9-2DAE-4B14-8807-231FFB6EF2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5FD-2076-4AC9-BDC8-94BFE4741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709B-B102-44F2-9FE0-32FC8B47F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B4AB-649A-45B4-9DBD-053EFCA89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E56-38AB-46E2-9C1E-923103E8C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95520" y="2604960"/>
            <a:ext cx="59529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905040" y="1150920"/>
            <a:ext cx="7333920" cy="213372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2232" descr=""/>
          <p:cNvPicPr/>
          <p:nvPr/>
        </p:nvPicPr>
        <p:blipFill>
          <a:blip r:embed="rId2"/>
          <a:stretch/>
        </p:blipFill>
        <p:spPr>
          <a:xfrm>
            <a:off x="276120" y="3753000"/>
            <a:ext cx="8591760" cy="2124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614840" y="16286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7380360" y="162864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4427640" y="234936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581960" y="234936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1965240" y="422100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4932360" y="422100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8280360" y="4249800"/>
            <a:ext cx="684360" cy="506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1979640" y="4869000"/>
            <a:ext cx="684360" cy="506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5133960" y="4869000"/>
            <a:ext cx="684360" cy="5061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8488440" y="4883040"/>
            <a:ext cx="684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24040" y="1101600"/>
            <a:ext cx="7495920" cy="5496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24360" y="371628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356000" y="4494240"/>
            <a:ext cx="158436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716360" y="530064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16360" y="6093000"/>
            <a:ext cx="1224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66840" y="825480"/>
            <a:ext cx="8410320" cy="5772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278320" y="24638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7682040" y="2421000"/>
            <a:ext cx="72072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3780000" y="4149720"/>
            <a:ext cx="72072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5522760" y="4149720"/>
            <a:ext cx="57636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667640" y="4105440"/>
            <a:ext cx="936720" cy="50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3132000" y="5877000"/>
            <a:ext cx="863640" cy="506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5435640" y="5877000"/>
            <a:ext cx="1008000" cy="5061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8056440" y="5877000"/>
            <a:ext cx="6336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76801" descr=""/>
          <p:cNvPicPr/>
          <p:nvPr/>
        </p:nvPicPr>
        <p:blipFill>
          <a:blip r:embed="rId1"/>
          <a:stretch/>
        </p:blipFill>
        <p:spPr>
          <a:xfrm>
            <a:off x="262080" y="843120"/>
            <a:ext cx="8619840" cy="5171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812000" y="20606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812000" y="391968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812000" y="551664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690480" y="2090880"/>
            <a:ext cx="7763040" cy="26762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524720" y="213372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308720" y="3962520"/>
            <a:ext cx="648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219240" y="2362320"/>
            <a:ext cx="8705520" cy="2133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3990960"/>
            <a:ext cx="60501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6324" descr=""/>
          <p:cNvPicPr/>
          <p:nvPr/>
        </p:nvPicPr>
        <p:blipFill>
          <a:blip r:embed="rId1"/>
          <a:stretch/>
        </p:blipFill>
        <p:spPr>
          <a:xfrm>
            <a:off x="271440" y="873000"/>
            <a:ext cx="8601120" cy="5724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539640" y="5300640"/>
            <a:ext cx="835344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324000" y="6021360"/>
            <a:ext cx="8353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299880" y="830160"/>
            <a:ext cx="8544240" cy="5838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826920" y="5445000"/>
            <a:ext cx="6050160" cy="506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684360" y="6164280"/>
            <a:ext cx="60498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4276" descr=""/>
          <p:cNvPicPr/>
          <p:nvPr/>
        </p:nvPicPr>
        <p:blipFill>
          <a:blip r:embed="rId1"/>
          <a:stretch/>
        </p:blipFill>
        <p:spPr>
          <a:xfrm>
            <a:off x="262080" y="923760"/>
            <a:ext cx="8619840" cy="5010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684360" y="2522520"/>
            <a:ext cx="360036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684360" y="3227400"/>
            <a:ext cx="360036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611280" y="3948120"/>
            <a:ext cx="360036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11280" y="4653000"/>
            <a:ext cx="3600360" cy="506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11280" y="5330880"/>
            <a:ext cx="3600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38:1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